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869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302-ECF1-40AF-B12B-B14F9C4E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EA7-ED8C-4FC8-B6A6-ED71FF77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14B-BA06-4F1A-B2E8-F636B17D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B9D-561C-473E-8274-5890806A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355-A394-4B52-9B50-314E830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C31-00A7-47CC-85D1-64CB1E14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9AE-55AF-4883-8E8E-79467E1A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D7F-2763-4068-A03D-C44BE75C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E0E-7179-4F59-9FFA-DEB46AF8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9B2-BA07-45CE-9B6B-8ECED7A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822-E40C-4058-B4C0-A22EF00D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445-4442-4AC0-AE2B-B490C3CE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FB4C-5336-47C0-B038-7EE0A6236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URRICULUM COMPA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571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TRATEGY FOR “RESPONSIVE TEAC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124080" y="1295280"/>
          <a:ext cx="3041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295280"/>
                    <a:ext cx="3041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219320" y="5943600"/>
            <a:ext cx="723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aterial drawn from </a:t>
            </a: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It’s About Time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by Alane J. Starko, copyright 198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eproduced with permission from Creative Learning Press, Inc., P.O. Box 320, Mansfield Center, CT 06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This is Boring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520" y="1432080"/>
            <a:ext cx="8179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ds do not bring happiness to the hearts of teac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y to respond to this statement i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students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escribing their bore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students to differentiate between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“Boring A” situ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Boring B”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09880" y="3962520"/>
          <a:ext cx="12956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962520"/>
                    <a:ext cx="12956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28600" y="403848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Boring A Situ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“I already know that; could you give me an opportunity to show you?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07040" y="4038480"/>
            <a:ext cx="393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33"/>
                </a:solidFill>
                <a:uFillTx/>
                <a:latin typeface="Times New Roman"/>
              </a:rPr>
              <a:t>Boring B Situ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“At the present time I do not know enough about the topic to be interested in i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Kinds of Curriculum Compa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9520" y="2408400"/>
            <a:ext cx="43912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Basic Skills Compa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lling, Math Compu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 Basic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tes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easily us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 pro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13360" y="2408400"/>
            <a:ext cx="41292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ntent Compa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tudies, Science,  Literature, Math Applications, and Problem-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s may already know some material or may be able to read advanced material or master objectives more  quick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2133720"/>
            <a:ext cx="0" cy="441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293760"/>
            <a:ext cx="1833840" cy="19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ST DIFFICULT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676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e teacher previews the student task and selects the most difficult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038480" y="5105520"/>
          <a:ext cx="154944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5105520"/>
                    <a:ext cx="15494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2743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examples are marked (*) and students are given the opportunity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these items first as a means of demonstrating mastery or understa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4267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f students are able to demonstrate mastery, then they are free to select alternate activities for that perio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ALS OF COMPAC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33"/>
                </a:solidFill>
                <a:latin typeface="Times New Roman"/>
              </a:rPr>
              <a:t>Create a challenging learning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uarantee proficiency in basic curricul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33"/>
                </a:solidFill>
                <a:latin typeface="Times New Roman"/>
              </a:rPr>
              <a:t>Buy time for enrichment and accel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828800"/>
          <a:ext cx="2183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2183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367000" y="214200"/>
          <a:ext cx="41432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4200"/>
                    <a:ext cx="41432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79440" y="2797200"/>
            <a:ext cx="8610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1566720"/>
          <a:ext cx="38088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56672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00400" y="1565280"/>
          <a:ext cx="380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400800" y="1565280"/>
          <a:ext cx="38088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57200" y="210492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s of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06440" y="2104920"/>
            <a:ext cx="30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ing Mas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05760" y="2104920"/>
            <a:ext cx="272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nat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080" y="1127160"/>
            <a:ext cx="83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’s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367000" y="214200"/>
          <a:ext cx="41432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4200"/>
                    <a:ext cx="41432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79440" y="2797200"/>
            <a:ext cx="8610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566720"/>
          <a:ext cx="38088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56672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200400" y="1565280"/>
          <a:ext cx="380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400800" y="1565280"/>
          <a:ext cx="38088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7200" y="210492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s of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06440" y="2104920"/>
            <a:ext cx="30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ing Mas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5760" y="2104920"/>
            <a:ext cx="272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nat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080" y="1127160"/>
            <a:ext cx="83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’s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nette 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971800"/>
            <a:ext cx="2225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 ---Decimal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84560" y="3108240"/>
            <a:ext cx="2835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 of 85 percent or higher on the pr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124080"/>
            <a:ext cx="3048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work with class on days they learn concepts she has not ma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work on alternate math enrichment activities on other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367000" y="214200"/>
          <a:ext cx="41432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4200"/>
                    <a:ext cx="41432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79440" y="2797200"/>
            <a:ext cx="8610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566720"/>
          <a:ext cx="38088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56672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200400" y="1565280"/>
          <a:ext cx="380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324480" y="1565280"/>
          <a:ext cx="38124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1565280"/>
                    <a:ext cx="3812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57200" y="210492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s of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06440" y="2104920"/>
            <a:ext cx="30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ing Mas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5760" y="2104920"/>
            <a:ext cx="272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nat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080" y="1127160"/>
            <a:ext cx="83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’s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ose, Joanne, Sam, and Linda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080" y="3184560"/>
            <a:ext cx="2530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Stud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 Living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Interest Strong Readers----   Will read and pick up concepts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60880" y="3184560"/>
            <a:ext cx="27590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read chapters 5 &amp; 6 in text at own 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chapter exercises 3, 7, &amp;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unit test when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3124080"/>
            <a:ext cx="2819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select a topic of interest  from a list of  alternate activities related to an aspect of colonial living for an independent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367000" y="214200"/>
          <a:ext cx="41432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4200"/>
                    <a:ext cx="41432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79440" y="2797200"/>
            <a:ext cx="8610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566720"/>
          <a:ext cx="38088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56672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200400" y="1565280"/>
          <a:ext cx="380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324480" y="1565280"/>
          <a:ext cx="38124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1565280"/>
                    <a:ext cx="3812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57200" y="210492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s of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06440" y="2104920"/>
            <a:ext cx="30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ing Mas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5760" y="2104920"/>
            <a:ext cx="272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nat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080" y="1127160"/>
            <a:ext cx="83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’s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William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1840" y="3108240"/>
            <a:ext cx="151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9800" y="3032280"/>
            <a:ext cx="266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 an “A”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05400" y="3032280"/>
            <a:ext cx="28735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ead to g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for 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about cast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write boo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tles INSTEA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ing map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47640" y="266760"/>
            <a:ext cx="8191440" cy="723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" y="258840"/>
            <a:ext cx="7701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Phases of Curriculum Compac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981000"/>
            <a:ext cx="731520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ase I 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Times New Roman"/>
              </a:rPr>
              <a:t>Establishing the goals and outcomes of the unit or segment of instr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ase II 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Identifying students who may be candidates for compac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ase III 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Times New Roman"/>
              </a:rPr>
              <a:t>Identifying areas to be considered for compac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ase IV 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Establish procedures for compacting the basic mater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ase V 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Times New Roman"/>
              </a:rPr>
              <a:t>Provide options for enrichment or  accel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1360" y="1338120"/>
          <a:ext cx="1352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338120"/>
                    <a:ext cx="1352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28600" y="249120"/>
          <a:ext cx="853452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9120"/>
                    <a:ext cx="853452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07360" y="2346480"/>
            <a:ext cx="871020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ess through the education program at rates faster or at 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er than conventional; providing instruction at a leve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ce appropriate to a child’s achievement and readi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ardless of grade leve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Acceleration may include but is not limit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01520" y="4708440"/>
            <a:ext cx="4971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 Advanced Placement in a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 Curriculum Comp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 Telescoping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7120" y="4976640"/>
          <a:ext cx="2005200" cy="143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4976640"/>
                    <a:ext cx="2005200" cy="14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urriculum Compa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8320" y="175104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com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2286000"/>
            <a:ext cx="8283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the end of the training participants will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considered student behaviors that might suggest a need for compac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clarified curriculum compacting as a strategy for differenti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 recognized the difference betwe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asic skills compact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mpact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discussed the role of assessment as related to compac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) shared some planning and management tools for compac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315200" y="762120"/>
          <a:ext cx="1501920" cy="15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762120"/>
                    <a:ext cx="150192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366920" y="96840"/>
          <a:ext cx="617688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96840"/>
                    <a:ext cx="6176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13120" y="2681280"/>
            <a:ext cx="883980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tudents the opportunity to learn in greater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breadth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Enrichment may include but is not limit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76400" y="4556160"/>
            <a:ext cx="472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 Complexity of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 Creative and Original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 Self-selected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9760" y="4724280"/>
          <a:ext cx="2180880" cy="15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760" y="4724280"/>
                    <a:ext cx="218088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7160" y="2438280"/>
            <a:ext cx="8610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1600200"/>
            <a:ext cx="0" cy="4495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1600200"/>
            <a:ext cx="0" cy="4495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347840"/>
            <a:ext cx="2819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iculum Areas to be Considered for Compac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1447920"/>
            <a:ext cx="28954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s for Compacting Basic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1447920"/>
            <a:ext cx="2457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ichment and/or Acceleration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90680" y="366840"/>
          <a:ext cx="414360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366840"/>
                    <a:ext cx="41436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76320" y="880920"/>
          <a:ext cx="38088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880920"/>
                    <a:ext cx="3808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048120" y="957240"/>
          <a:ext cx="38088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957240"/>
                    <a:ext cx="3808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172200" y="957240"/>
          <a:ext cx="380880" cy="5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957240"/>
                    <a:ext cx="3808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Differentiating in Mixed-Ability Classro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09520" y="1981080"/>
          <a:ext cx="2962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81080"/>
                    <a:ext cx="2962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aching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respon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what we know about the learner(s)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Student Behaviors Which May Suggest That Compacting is Necess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680" y="2604960"/>
            <a:ext cx="8825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istently finishes tasks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is usually well done and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ems to have some advanced familiarity with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resses interest in pursuing alternate or 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istent high performance or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s own puzzles, games, or other diversion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99240" y="1589040"/>
            <a:ext cx="183348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Jester"/>
              </a:rPr>
              <a:t>Rapid R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17680" y="2286000"/>
          <a:ext cx="44640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7680" y="2286000"/>
                    <a:ext cx="44640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461960" y="129528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THE DREADED EARLY FINISH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124080" y="2209680"/>
          <a:ext cx="304812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09680"/>
                    <a:ext cx="304812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287360" y="685800"/>
            <a:ext cx="677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Jester"/>
              </a:rPr>
              <a:t>Never Finished Fredd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5486400"/>
            <a:ext cx="51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It takes him an hour-and-a-half to watch Sixty Minut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64480" y="304920"/>
            <a:ext cx="622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urriculum Compac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743200" y="2209680"/>
            <a:ext cx="3720960" cy="77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CURRICULUM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651040"/>
            <a:ext cx="39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What’s importa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What can be skipped or elimin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What do students already know or are able to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What will they grasp eas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What can be accomplished quick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600200"/>
            <a:ext cx="457200" cy="47242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1676520"/>
            <a:ext cx="457200" cy="47242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276720"/>
            <a:ext cx="1905120" cy="10666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3352680"/>
            <a:ext cx="1905120" cy="10670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429000"/>
            <a:ext cx="1067040" cy="838080"/>
          </a:xfrm>
          <a:prstGeom prst="rightArrow">
            <a:avLst>
              <a:gd name="adj1" fmla="val 50000"/>
              <a:gd name="adj2" fmla="val 31830"/>
            </a:avLst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3505320"/>
            <a:ext cx="1067040" cy="838080"/>
          </a:xfrm>
          <a:prstGeom prst="leftArrow">
            <a:avLst>
              <a:gd name="adj1" fmla="val 50000"/>
              <a:gd name="adj2" fmla="val 31830"/>
            </a:avLst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URRICULUM COMPA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t’s About </a:t>
            </a: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Time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--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udents to pur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-depth learn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2362320"/>
          <a:ext cx="35812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35812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9040" y="2133720"/>
            <a:ext cx="6845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teaching strategy that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“buys tim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acceleration and/or enrich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152280"/>
          <a:ext cx="62485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2485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51520" y="293760"/>
            <a:ext cx="1833840" cy="1915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350532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oal is to modify or 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“streamline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urriculum to allow students to move at a quicker pace and then have time to pursue an alternate topic or go into greater depth in an area of stu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4T22:13:08Z</dcterms:created>
  <dc:creator>Walt Kearney</dc:creator>
  <dc:description/>
  <dc:language>en-US</dc:language>
  <cp:lastModifiedBy>MCPS</cp:lastModifiedBy>
  <cp:lastPrinted>1999-09-28T17:00:08Z</cp:lastPrinted>
  <dcterms:modified xsi:type="dcterms:W3CDTF">2005-04-08T19:34:25Z</dcterms:modified>
  <cp:revision>29</cp:revision>
  <dc:subject/>
  <dc:title>CURRICULUM COMPACTING</dc:title>
</cp:coreProperties>
</file>